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9AD-4449-42BA-A513-F2F79A57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4F9-732F-47A8-89F0-3CF878B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B34-6480-4C47-A5BF-3A97C0D8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7A6-F4C2-4F99-8A8D-EF6F9A1C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08F-6853-44CA-8A81-CA566223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AD3-A0E6-4580-8790-63720E2D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7A1-ED1F-4E4B-9BC1-531C749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9E9-1AE7-4008-A0EB-8F36404A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0CC-EF70-463C-AE07-7FB4BFF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466-BAC2-4F9A-A0F1-ECE260F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1FF-2BD4-4EEF-90F2-D5EA1BC2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4D0-7EB5-4C8A-9445-17DDED1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3A0D-5BFD-4B8B-A464-F200A5A39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14600" y="4800600"/>
            <a:ext cx="2924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ransition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a3</cp:lastModifiedBy>
  <dcterms:modified xsi:type="dcterms:W3CDTF">2012-06-18T11:06:48Z</dcterms:modified>
  <cp:revision>2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